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jpeg" ContentType="image/jpeg"/>
  <Override PartName="/ppt/media/image8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35112-7832-4AFB-8782-DE763A7C2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3A6E-C1F1-4A80-8760-A8DE25BB7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943C7-2F1C-43C9-A571-F8D2F7F58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bio1152.nicerweb.com/Locked/media/ch45/endocrin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://www.daviddarling.info/images/hypothalamus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43DEE-5500-4320-A493-6FE5ACA91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://hypogal.com/wp-content/uploads/2014/11/Pituitary-HG.jp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D3099-BE55-4D5F-ACE0-6A05EB694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440C4-44EF-4B8C-9E35-915D43954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C04DB-7CA1-4887-81E0-6E43E2D53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://www2.estrellamountain.edu/faculty/farabee/Biobk/pituitary_2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H reabsorption of water in distal convoluted tubule; Inhibited by alcohol &amp; caffe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tocin: childbirth, milk re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99124-1907-4C55-822D-E9762C4C6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healinghaven.typepad.com/photos/fillmores_12_power/pineal-drawing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2DDBA-1015-442F-964A-5D3BEBB19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; http://www.uic.edu/classes/bios/bios100/lecturesf04am/adh01a,jpg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C6FE2-D3EF-4213-B02F-A330D96B0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995CB-41AE-4CA7-A798-6625455D8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://www.aloewellnessdc.com/wp-content/uploads/2014/10/hormones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s://opentextbc.ca/biology/chapter/18-3-regulation-of-body-processe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5948C-7181-4A42-AFF8-42CB65A11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en.wikipedia.org/wiki/Renin–angiotensin_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90C13-632A-406E-BC85-7319D24B0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://medical1stop.com/wp-content/uploads/Thyroid-Gland-Location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9D21C-8898-4947-8492-E2A6833EC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://www.nap.edu/openbook/0309095689/xhtml/images/p2000c8bag44001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0CF2E-C3EA-4985-8487-8204AEF4F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7C6EB-5925-43E5-AD0B-59CB8552F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n.wikipedia.org/wiki/Thyroid-stimulating_horm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A284F-F41C-4380-9E81-8D6358F30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://classconnection.s3.amazonaws.com/773/flashcards/681773/jpg/calcitonin1315169317026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6E39D-ACCF-491D-BA93-968152C85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://cf.ydcdn.net/1.0.1.44/images/main/adrenal%20gland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6D4E8-605C-4EDA-89ED-2EA1EB142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44F14-1DB6-403C-99BF-A4BC80DBA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F238A-E806-4DC7-9E37-002CE23DC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ftmguide.org/hormonebasic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4E14A-F1C4-4926-8858-C5818708A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s://courses.candelalearning.com/olianp/wp-content/uploads/sites/167/2014/11/E_M1_7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C7BD6-7FF0-480C-96F9-C1BBE9CF0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555A0-9112-4A85-A2B8-73AF5D7A6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7E8F4-5780-4074-9CF8-5CA7AFE4F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schoolworkhelper.net/2010/07/the-endocrine-system-function-and-structure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C402A-1DF8-4872-A438-8E562A2BE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nekaeportfolio.blogspot.com/2011/02/identifying-classes-of-hormones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31E53-4849-44A3-88A8-1863079E8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8CE5-B849-4A78-9B1B-AFCE5BD79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B8AD-E977-4815-8B34-07B2BC606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B43B-28D8-4202-88D6-39D2BCE51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5C1C-C1C9-4D99-92C1-D37DE5DC0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B5BB-AB71-44BF-BBB8-8DA5DE2FC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1D7C-6EC7-47F5-9474-AB5D8E3C8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CA3C-5800-43BF-8BE3-1F12E240A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0568-C688-4160-A575-06B0A0D82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C4F5-5DE0-45E1-B9B4-C3EE6F476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171E-B7E3-46E6-9325-4E276DC6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29DE-0A47-4726-B957-C6CB838C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6981-070D-4655-97BB-D290517E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EBBC9-CB2B-42CE-AA72-9F242B864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TgNwxF3aQpE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rmones: Chemical Regul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ndocrine Gl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45_06HumanEndocGlands"/>
          <p:cNvPicPr/>
          <p:nvPr/>
        </p:nvPicPr>
        <p:blipFill>
          <a:blip r:embed="rId1"/>
          <a:stretch/>
        </p:blipFill>
        <p:spPr>
          <a:xfrm>
            <a:off x="1131840" y="609480"/>
            <a:ext cx="6878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ala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of the brain &amp; the nervou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urohormon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ich are released from neurons into the bloodstream to the</a:t>
            </a: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Content Placeholder 5" descr="hypothalamus.gif"/>
          <p:cNvPicPr/>
          <p:nvPr/>
        </p:nvPicPr>
        <p:blipFill>
          <a:blip r:embed="rId1"/>
          <a:srcRect l="0" t="-9541" r="0" b="-954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tuitary G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al vein connects capillaries in hypothalamus to those in pitui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easing hormones &amp; inhibiting hormones act on the anterior pitui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Content Placeholder 4" descr="Pituitary-HG.jpeg"/>
          <p:cNvPicPr/>
          <p:nvPr/>
        </p:nvPicPr>
        <p:blipFill>
          <a:blip r:embed="rId1"/>
          <a:srcRect l="0" t="-11787" r="0" b="-11787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erior Pituit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s &amp; stores many hormones (prolactin, growth hormone, TSH, FSH, LH, ACTH, MSH, endorphins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ral painkiller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se are tropic hormones (they act on other endocrine gla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Content Placeholder 2" descr="figure_06_04_labeled.jpg"/>
          <p:cNvPicPr/>
          <p:nvPr/>
        </p:nvPicPr>
        <p:blipFill>
          <a:blip r:embed="rId1"/>
          <a:srcRect l="0" t="4786" r="0" b="4786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erior Pituit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s and releases 2 hormones produced by the hypothala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-diuretic hormone (ADH) &amp; oxytoc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Content Placeholder 2" descr="pituitary_2.gif"/>
          <p:cNvPicPr/>
          <p:nvPr/>
        </p:nvPicPr>
        <p:blipFill>
          <a:blip r:embed="rId1"/>
          <a:srcRect l="0" t="-16694" r="0" b="-16694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6a01053603aa25970c010536c8ba2c970c-500wi"/>
          <p:cNvPicPr/>
          <p:nvPr/>
        </p:nvPicPr>
        <p:blipFill>
          <a:blip r:embed="rId1"/>
          <a:stretch/>
        </p:blipFill>
        <p:spPr>
          <a:xfrm>
            <a:off x="1266840" y="609480"/>
            <a:ext cx="66103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neal G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tes biological rhythms due to secretion of melaton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latonin regulates biorhythms (the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logical clock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(detected by the eye) inhibits melatonin secr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ulatory Pathw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-diuretic hormone (ADH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s on kidneys to reabsorb more water in the distal tubule &amp; collecting 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ease inhibited by caffeine, alcohol; stimulated by nicotine, str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Content Placeholder 4" descr="adh01a,jpg.jpg"/>
          <p:cNvPicPr/>
          <p:nvPr/>
        </p:nvPicPr>
        <p:blipFill>
          <a:blip r:embed="rId1"/>
          <a:srcRect l="13220" t="0" r="13220" b="0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rm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d by cells in one part of the body that regulate processes in another part of the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Content Placeholder 2" descr="hormones.jpg"/>
          <p:cNvPicPr/>
          <p:nvPr/>
        </p:nvPicPr>
        <p:blipFill>
          <a:blip r:embed="rId1"/>
          <a:srcRect l="0" t="-20578" r="0" b="-20578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H Regulatory Path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Content Placeholder 5" descr="Figure_37_03_01-1024x554.jpg"/>
          <p:cNvPicPr/>
          <p:nvPr/>
        </p:nvPicPr>
        <p:blipFill>
          <a:blip r:embed="rId1"/>
          <a:srcRect l="0" t="-1255" r="0" b="-1255"/>
          <a:stretch/>
        </p:blipFill>
        <p:spPr>
          <a:xfrm>
            <a:off x="324000" y="1700280"/>
            <a:ext cx="85690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Content Placeholder 6" descr="700px-Renin-angiotensin-aldosterone_system.png"/>
          <p:cNvPicPr/>
          <p:nvPr/>
        </p:nvPicPr>
        <p:blipFill>
          <a:blip r:embed="rId1"/>
          <a:srcRect l="0" t="-13769" r="0" b="-13769"/>
          <a:stretch/>
        </p:blipFill>
        <p:spPr>
          <a:xfrm>
            <a:off x="468360" y="476280"/>
            <a:ext cx="820728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yroid Gl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s hormones important for growth, development, metabolism in all verteb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SH causes thyroid to release thyroxin 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ontent Placeholder 5" descr="Thyroid-Gland-Location.jpg"/>
          <p:cNvPicPr/>
          <p:nvPr/>
        </p:nvPicPr>
        <p:blipFill>
          <a:blip r:embed="rId1"/>
          <a:srcRect l="4167" t="0" r="4167" b="0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yroid Horm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verts to triiodothyronine 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which acts on most cells to increase metabolic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ontent Placeholder 4" descr="p2000c8bag44001.jpg"/>
          <p:cNvPicPr/>
          <p:nvPr/>
        </p:nvPicPr>
        <p:blipFill>
          <a:blip r:embed="rId1"/>
          <a:srcRect l="-20066" t="0" r="-20066" b="0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gative Feedb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250px-Thyroid_system"/>
          <p:cNvPicPr/>
          <p:nvPr/>
        </p:nvPicPr>
        <p:blipFill>
          <a:blip r:embed="rId1"/>
          <a:stretch/>
        </p:blipFill>
        <p:spPr>
          <a:xfrm>
            <a:off x="2470320" y="1600200"/>
            <a:ext cx="42033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iton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ed by thyro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s C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vels in blood by stimulating deposition in bones &amp; reducing C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ptake by kidn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Content Placeholder 2" descr="calcitonin1315169317026.jpg"/>
          <p:cNvPicPr/>
          <p:nvPr/>
        </p:nvPicPr>
        <p:blipFill>
          <a:blip r:embed="rId1"/>
          <a:srcRect l="0" t="-12637" r="0" b="-12637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thyroid Gl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ea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thyro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rm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TH) when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s 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mulat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on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release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idne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activate vitamin D, which acts on cells 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testin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increase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bsorp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Content Placeholder 2" descr="image019.jpg"/>
          <p:cNvPicPr/>
          <p:nvPr/>
        </p:nvPicPr>
        <p:blipFill>
          <a:blip r:embed="rId1"/>
          <a:srcRect l="-27641" t="0" r="-27641" b="0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renal Gl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rena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edul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cretes neurohormones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pinephr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drenaline) &amp;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repinephr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ht or fligh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t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Content Placeholder 5" descr="adrenal gland.jpg"/>
          <p:cNvPicPr/>
          <p:nvPr/>
        </p:nvPicPr>
        <p:blipFill>
          <a:blip r:embed="rId1"/>
          <a:srcRect l="-15414" t="0" r="-15414" b="0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renal Cort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rena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rte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cretes hormones such a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dostero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osmoregulation)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tis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blood glucose regul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Content Placeholder 2" descr="adrenal gland.jpg"/>
          <p:cNvPicPr/>
          <p:nvPr/>
        </p:nvPicPr>
        <p:blipFill>
          <a:blip r:embed="rId1"/>
          <a:srcRect l="-15414" t="0" r="-15414" b="0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rge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receptors"/>
          <p:cNvPicPr/>
          <p:nvPr/>
        </p:nvPicPr>
        <p:blipFill>
          <a:blip r:embed="rId1"/>
          <a:stretch/>
        </p:blipFill>
        <p:spPr>
          <a:xfrm>
            <a:off x="685800" y="2638440"/>
            <a:ext cx="777240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docrin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ands secrete hormones directly into the blood or EC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ocr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lands (sweat, salivary glands) secrete into 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Content Placeholder 3" descr="E_M1_7.jpg"/>
          <p:cNvPicPr/>
          <p:nvPr/>
        </p:nvPicPr>
        <p:blipFill>
          <a:blip r:embed="rId1"/>
          <a:srcRect l="0" t="-2366" r="0" b="-2366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ocrine vs. Nerv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systems integrate and control organs and t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rvous system helps body to adjus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ick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crine system maintains control ove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onger periods of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horm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te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rmon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amino acid chains and water-soluble; diffuse well through blood and flu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ro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rmon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derived from cholesterol and soluble in blood when combined with carrier 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in Horm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Protein-hormones"/>
          <p:cNvPicPr/>
          <p:nvPr/>
        </p:nvPicPr>
        <p:blipFill>
          <a:blip r:embed="rId1"/>
          <a:stretch/>
        </p:blipFill>
        <p:spPr>
          <a:xfrm>
            <a:off x="2135160" y="1981080"/>
            <a:ext cx="4872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pid-Soluble Horm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steroid-hormone"/>
          <p:cNvPicPr/>
          <p:nvPr/>
        </p:nvPicPr>
        <p:blipFill>
          <a:blip r:embed="rId1"/>
          <a:stretch/>
        </p:blipFill>
        <p:spPr>
          <a:xfrm>
            <a:off x="2484360" y="1981080"/>
            <a:ext cx="4173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of types of hormones &amp; how they interact with their target cells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youtube.com/watch?v=TgNwxF3aQ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2T10:21:50Z</dcterms:created>
  <dc:creator>rubina khan</dc:creator>
  <dc:description/>
  <dc:language>en-US</dc:language>
  <cp:lastModifiedBy>rubina khan</cp:lastModifiedBy>
  <dcterms:modified xsi:type="dcterms:W3CDTF">2017-05-02T16:01:35Z</dcterms:modified>
  <cp:revision>195</cp:revision>
  <dc:subject/>
  <dc:title>Importance of the Endocrine System</dc:title>
</cp:coreProperties>
</file>